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F297-62CE-4FF7-967D-EBE34E5C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79E-69EF-481C-B615-A2E3A293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03B-1BE4-4EEE-B518-3B7DC623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6853-808C-4C1F-8FBA-E3B676EB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ECB-2D26-4BD6-A759-9232F24D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692-B7E3-4F08-9A99-DD448C4A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0CDF-7C80-4472-B90C-DD95860F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C43B-3AB1-4B79-886A-75979A88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830-672E-4FDA-998B-17DF6ED1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D5B-4C2D-42AD-9003-013A50B2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14E6-0041-4933-A0B9-D92F6D93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DF6-6F9D-4F28-AB57-E2FE143E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B8AD-A616-42FF-8414-8F7BE5D96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attcutts.com/blog/text-links-and-pagerank/" TargetMode="External"/><Relationship Id="rId2" Type="http://schemas.openxmlformats.org/officeDocument/2006/relationships/hyperlink" Target="http://mattcutts.com/blog/text-links-and-pagerank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aid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att Cu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oogle Software Engin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S San Jose, August 21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Google’s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oth algorithmic and human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cent Rand Fishkin post about paid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tected all but one link algorith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oogle is willing to take strong action against PPP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s is an area Google is focusing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google.com/webmasters/tools/paidlinks?hl=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ttcutts.com/blog/text-links-and-pagerank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attcutts.com/blog/how-to-report-paid-link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washingtonpost.com/wp-dyn/content/article/2006/12/11/AR2006121101389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jallfoss.fcc.gov/edocs_public/attachmatch/DOC-272304A1.pd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fcc.gov/eb/Orders/2007/FCC-07-42A4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paid links ev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's the wrong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paid links that pass PageRank violate search engines’ quality guideli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answer to that question is 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Disclosing pay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ashington Post, Dec. 12, 200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 Moves to Unmask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-of-Mouth Marke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r Must Disclose Link to Sell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We wanted to make clear . . . if you're being paid, you should disclose that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-- Mary Engle, FTC associate director for advertising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Disclosure on th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web is used by both people (surfers) and machines (search engine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is adequate disclosure on the we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nderstandable b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nderstandable by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lear disclosure to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lear disclosure: won’t pass Page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direct through url blocked by robots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direct through url that does 3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l=“nofollow” on individual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meta name=“robots" content=“nofollow" /&gt; on entire p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actical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buy links within search engin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dB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Qu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dustryB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dCenter, Y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y site that doesn’t pass PageRank in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uying paid links that pass PageRank violates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ur quality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aid PageRank-Passing (PPP)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ypes of paid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5351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34800" y="33130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(These are f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70520" y="34290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(These are against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ur guidel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xamples of PPP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1227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3094200"/>
            <a:ext cx="91440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ink-buying obsta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t can be difficult to buy PPP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uy for a limited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uy “run-of-site” lin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uying links from “sloppy seller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ecking if a link seller cloa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a competitor spot your paid lin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5:15:32Z</dcterms:created>
  <dc:creator>Google</dc:creator>
  <dc:description/>
  <dc:language>en-US</dc:language>
  <cp:lastModifiedBy>Google</cp:lastModifiedBy>
  <dcterms:modified xsi:type="dcterms:W3CDTF">2007-09-03T05:40:41Z</dcterms:modified>
  <cp:revision>7</cp:revision>
  <dc:subject/>
  <dc:title>Paid Links</dc:title>
</cp:coreProperties>
</file>