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9CB-DAF6-4D2C-AB97-C1E1A5C0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71B-BF84-43E8-B5CA-9453AB68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A2E-1D13-4EA6-801F-2C6BD36C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82C-EC13-4DE2-B3BA-BD7D96A7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C28-D139-4C10-8681-1CC4F3B3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D57-6969-4C80-8DB0-FBB3197F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4ED-6C96-48BF-A992-3AE13A38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E40-CA5C-4A42-879A-13DA2434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FE2-02AD-4DF3-972F-C28C054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CA0-B264-498D-866F-D0F7305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73E-3213-4F2E-8E31-D8040EB6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D04-7E45-411F-8408-9684F54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868-32E4-41C4-9785-FCF6165F1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ttcutts.com/blog/text-links-and-pagerank/" TargetMode="External"/><Relationship Id="rId2" Type="http://schemas.openxmlformats.org/officeDocument/2006/relationships/hyperlink" Target="http://mattcutts.com/blog/text-links-and-pagerank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aid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tt Cu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gle Software Engi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S San Jose, August 2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oogle’s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oth algorithmic and human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cent Rand Fishkin post about paid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tected all but one link algorith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gle is willing to take strong action against PPP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an area Google is focus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google.com/webmasters/tools/paidlinks?hl=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tcutts.com/blog/text-links-and-pagerank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ttcutts.com/blog/how-to-report-paid-link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ashingtonpost.com/wp-dyn/content/article/2006/12/11/AR2006121101389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jallfoss.fcc.gov/edocs_public/attachmatch/DOC-272304A1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fcc.gov/eb/Orders/2007/FCC-07-42A4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aid links ev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's the wrong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aid links that pass PageRank violate search engines’ quality guide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nswer to that question is 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closing pay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shington Post, Dec. 12, 20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 Moves to Unmas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-of-Mouth Mark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r Must Disclose Link to Sell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We wanted to make clear . . . if you're being paid, you should disclose that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- Mary Engle, FTC associate director for advertis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closure on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web is used by both people (surfers) and machines (search engin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is adequate disclosure on the we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nderstandable b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nderstandable by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lear disclosure to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lear disclosure: won’t pass Page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direct through url blocked by robots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direct through url that does 3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=“nofollow” on individu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meta name=“robots" content=“nofollow" /&gt; on entire 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act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uy links within search engin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B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u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dustryB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Center, Y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site that doesn’t pass PageRank in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ying paid links that pass PageRank violates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ur quality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id PageRank-Passing (PPP)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ypes of paid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351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34800" y="33130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These are f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0520" y="34290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These are against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ur guide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 of PPP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122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094200"/>
            <a:ext cx="9144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nk-buying obst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t can be difficult to buy PPP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y for a limited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y “run-of-site” li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ying links from “sloppy seller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ing if a link seller clo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a competitor spot your paid li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5:15:32Z</dcterms:created>
  <dc:creator>Google</dc:creator>
  <dc:description/>
  <dc:language>en-US</dc:language>
  <cp:lastModifiedBy>Google</cp:lastModifiedBy>
  <dcterms:modified xsi:type="dcterms:W3CDTF">2007-09-03T05:40:41Z</dcterms:modified>
  <cp:revision>7</cp:revision>
  <dc:subject/>
  <dc:title>Paid Links</dc:title>
</cp:coreProperties>
</file>